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8CF-5386-4FAC-ABD4-2610D745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CC0-83B5-4C7A-959A-EC983DA1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3BA-D422-4FED-A9F8-27610502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ADC-BB0C-4A3D-A6A5-615C58BB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368-0FA6-4086-967C-43E8BA55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D99-593C-4EAB-907F-D459EE03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D7A-7FB8-4633-86B7-1A386A7B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A07-BA39-4B26-A832-1B2B8FDC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536-ECA8-4E2A-841E-9F26E472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630-93D4-49F2-8B03-C279D1F1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FA4-6EF0-4A8E-B90D-ABF5DAC7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213-2814-43D3-9F88-C7E857F3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42D4-8B2C-41A0-B6FB-622B16945F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"/>
              </a:rPr>
              <a:t>Feature Artic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032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Palatino"/>
              </a:rPr>
              <a:t>Chronological Or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7040" y="51530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riter sometimes organize their ideas by telling things in the order that they happen.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79404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e call this organizing in </a:t>
            </a:r>
            <a:r>
              <a:rPr b="0" lang="en-US" sz="3600" spc="-1" strike="noStrike">
                <a:solidFill>
                  <a:srgbClr val="66ccff"/>
                </a:solidFill>
                <a:latin typeface="Palatino"/>
              </a:rPr>
              <a:t>chronological order</a:t>
            </a: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248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Here’s an example…….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6248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Making a Chocolate Sunda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1447920"/>
            <a:ext cx="52578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First, you will need to put two or three scoops of vanilla ice cream in a bowl.  Then you pour chocolate syrup over the ice cream.  Next, you put a dab whip cream on top.  After that, sprinkle chopped nuts over the top.  Finally, top it with cherry.  Now - ENJO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77344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54864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you name the words which show the reader the order of ev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6248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Making a Chocolate Sunda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447920"/>
            <a:ext cx="52578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irs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, you will need to put two or three scoops of vanilla ice cream in a bowl. 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hen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 you pour chocolate syrup over the ice cream. 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Nex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, you put a dab whip cream on top. 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fter tha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, sprinkle chopped nuts over the top. 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inally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, top it with cherry.  Now - ENJO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773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2514600"/>
            <a:ext cx="83818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firs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nex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second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finally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 las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after tha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following tha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 in conclu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ords that can be used to show chronological order: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"/>
              </a:rPr>
              <a:t>When you’re working on your feature article, notice the way that you are describing things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80988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"/>
              </a:rPr>
              <a:t>You may be able to help your readers understand by placing events in </a:t>
            </a:r>
            <a:r>
              <a:rPr b="0" lang="en-US" sz="4000" spc="-1" strike="noStrike">
                <a:solidFill>
                  <a:srgbClr val="66ccff"/>
                </a:solidFill>
                <a:latin typeface="Palatino"/>
              </a:rPr>
              <a:t>chronological order</a:t>
            </a:r>
            <a:r>
              <a:rPr b="0" lang="en-US" sz="4000" spc="-1" strike="noStrike">
                <a:solidFill>
                  <a:srgbClr val="ffffff"/>
                </a:solidFill>
                <a:latin typeface="Palatino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51:17Z</dcterms:created>
  <dc:creator>Chuck Hatt</dc:creator>
  <dc:description/>
  <dc:language>en-US</dc:language>
  <cp:lastModifiedBy>AAPS</cp:lastModifiedBy>
  <cp:lastPrinted>2005-10-17T19:06:00Z</cp:lastPrinted>
  <dcterms:modified xsi:type="dcterms:W3CDTF">2005-10-20T15:11:47Z</dcterms:modified>
  <cp:revision>7</cp:revision>
  <dc:subject/>
  <dc:title>PowerPoint Presentation</dc:title>
</cp:coreProperties>
</file>